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AE6B-5AC1-4B24-B306-31A68E27C1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2335-6011-436B-A897-16CD035D17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756B-EFAF-40A3-96BF-785858DEAE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7F36-800A-412F-80D4-3EA94F12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DC43-4972-43CC-9CB2-DEA42AC9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9159-59A2-45D5-8D17-F2496F53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8A5-1FA5-411A-A39F-7AA23F97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09F-4894-4846-995A-FC7C638E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D016-BB2F-41BF-B6CE-43331A4D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752E-60A8-4B9F-A8A0-8525445B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1201-366D-4EBA-9032-229569CA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DC6-D1E4-4E9E-9105-836FDED5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8935-3E7E-4DBD-BC13-692E5474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967D-CD89-4293-8421-01AE7253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9A47-A5EF-4382-93F2-F6A82954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B336-87E4-467E-B8BE-9DD898E1C3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4880" y="476280"/>
            <a:ext cx="8220240" cy="36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АЛЕКСЕЕВСКОЕ СЕЛЬСКОЕ ПОСЕЛЕНИЕ ЧАМЗИНСКОГО МУНИЦИПАЛЬНОГО РАЙОНА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РЕСПУБЛИКИ МОРДОВИЯ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Tahoma"/>
              </a:rPr>
              <a:t>БЮДЖЕТ ДЛЯ ГРАЖДАН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4508280"/>
            <a:ext cx="856908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ff"/>
                </a:solidFill>
                <a:latin typeface="Times New Roman"/>
              </a:rPr>
              <a:t>к Проекту Решения Совета депутатов Алексеевского сельского поселения Чамзинского муниципального района                                                            «О бюджете Алексеевского сельского поселения                                        Чамзинского муниципального района Республики Мордовия                                  на 202</a:t>
            </a: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5</a:t>
            </a:r>
            <a:r>
              <a:rPr b="1" i="1" lang="ru-RU" sz="2400" spc="-1" strike="noStrike">
                <a:solidFill>
                  <a:srgbClr val="ffccff"/>
                </a:solidFill>
                <a:latin typeface="Times New Roman"/>
              </a:rPr>
              <a:t> год и на плановый период 202</a:t>
            </a: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6</a:t>
            </a:r>
            <a:r>
              <a:rPr b="1" i="1" lang="ru-RU" sz="2400" spc="-1" strike="noStrike">
                <a:solidFill>
                  <a:srgbClr val="ffccff"/>
                </a:solidFill>
                <a:latin typeface="Times New Roman"/>
              </a:rPr>
              <a:t> и 202</a:t>
            </a: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7</a:t>
            </a:r>
            <a:r>
              <a:rPr b="1" i="1" lang="ru-RU" sz="2400" spc="-1" strike="noStrike">
                <a:solidFill>
                  <a:srgbClr val="ffccff"/>
                </a:solidFill>
                <a:latin typeface="Times New Roman"/>
              </a:rPr>
              <a:t> годов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Расходы бюджета Алексеевского сельского поселения Чамзинского муниципального района Республики Мордовия 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(на душу населения)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4000" y="1268280"/>
          <a:ext cx="8497800" cy="4803840"/>
        </p:xfrm>
        <a:graphic>
          <a:graphicData uri="http://schemas.openxmlformats.org/drawingml/2006/table">
            <a:tbl>
              <a:tblPr/>
              <a:tblGrid>
                <a:gridCol w="3466800"/>
                <a:gridCol w="1127160"/>
                <a:gridCol w="974880"/>
                <a:gridCol w="965160"/>
                <a:gridCol w="987480"/>
                <a:gridCol w="976320"/>
              </a:tblGrid>
              <a:tr h="33192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Расходы поселения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рублей/че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202</a:t>
                      </a:r>
                      <a:r>
                        <a:rPr b="1" lang="en-US" sz="14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 год (факт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202</a:t>
                      </a:r>
                      <a:r>
                        <a:rPr b="1" lang="en-US" sz="14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 год (оценк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Прогно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2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2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2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Всего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99"/>
                          </a:solidFill>
                          <a:latin typeface="Times New Roman"/>
                        </a:rPr>
                        <a:t>2535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99"/>
                          </a:solidFill>
                          <a:latin typeface="Times New Roman"/>
                        </a:rPr>
                        <a:t>2447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2558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213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2189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579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93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58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31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94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99"/>
                          </a:solidFill>
                          <a:latin typeface="Times New Roman"/>
                        </a:rPr>
                        <a:t>106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99"/>
                          </a:solidFill>
                          <a:latin typeface="Times New Roman"/>
                        </a:rPr>
                        <a:t>131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144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158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174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99"/>
                          </a:solidFill>
                          <a:latin typeface="Times New Roman"/>
                        </a:rPr>
                        <a:t>249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99"/>
                          </a:solidFill>
                          <a:latin typeface="Times New Roman"/>
                        </a:rPr>
                        <a:t>275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7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15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8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88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56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54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20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14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99"/>
                          </a:solidFill>
                          <a:latin typeface="Times New Roman"/>
                        </a:rPr>
                        <a:t>53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99"/>
                          </a:solidFill>
                          <a:latin typeface="Times New Roman"/>
                        </a:rPr>
                        <a:t>58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8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8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8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31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53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99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99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8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d73"/>
            </a:gs>
            <a:gs pos="100000">
              <a:srgbClr val="e393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труктура расходной части бюджета Алексеевского сельского поселения Чамзинского муниципального района Республики Мордовия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в 202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5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году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-3240" y="981000"/>
          <a:ext cx="9655200" cy="648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981000"/>
                    <a:ext cx="9655200" cy="648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d73"/>
            </a:gs>
            <a:gs pos="100000">
              <a:srgbClr val="e393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труктура расходной части бюджета Алексеевского сельского поселения Чамзинского муниципального района Республики Мордовия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в 202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6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году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7" name="Object 4"/>
          <p:cNvGraphicFramePr/>
          <p:nvPr/>
        </p:nvGraphicFramePr>
        <p:xfrm>
          <a:off x="-466560" y="1138320"/>
          <a:ext cx="9878760" cy="642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6560" y="1138320"/>
                    <a:ext cx="987876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d73"/>
            </a:gs>
            <a:gs pos="100000">
              <a:srgbClr val="e393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труктура расходной части бюджета Алексеевского сельского поселения Чамзинского муниципального района Республики Мордовия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в 202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7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году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-685800" y="857160"/>
          <a:ext cx="10514160" cy="64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5800" y="857160"/>
                    <a:ext cx="1051416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Tahoma"/>
              </a:rPr>
              <a:t>ПРОГРАММНЫЙ БЮДЖЕТ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30728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ff"/>
                </a:solidFill>
                <a:latin typeface="Tahoma"/>
              </a:rPr>
              <a:t>Программный бюджет</a:t>
            </a:r>
            <a:r>
              <a:rPr b="0" lang="ru-RU" sz="1400" spc="-1" strike="noStrike">
                <a:solidFill>
                  <a:srgbClr val="ffcc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– формирование бюджета поселения в разрезе муниципальных програм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ff"/>
                </a:solidFill>
                <a:latin typeface="Tahoma"/>
              </a:rPr>
              <a:t>Муниципальная программа</a:t>
            </a:r>
            <a:r>
              <a:rPr b="0" lang="ru-RU" sz="1400" spc="-1" strike="noStrike">
                <a:solidFill>
                  <a:srgbClr val="ffcc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– документ, определяющий цель, задачи и результат, основные направления и инструменты государственной политики, направленные на достижение целей и реализацию государственных приоритетов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39640" y="2637000"/>
            <a:ext cx="820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ff"/>
                </a:solidFill>
                <a:latin typeface="Arial"/>
              </a:rPr>
              <a:t>Проектом решения о бюджете Алексеевского сельского поселения на 2024 год и на плановый период 2025 и 2026 годов предусмотрена реализация 6 муниципальных программ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11280" y="3284640"/>
          <a:ext cx="8064360" cy="3192480"/>
        </p:xfrm>
        <a:graphic>
          <a:graphicData uri="http://schemas.openxmlformats.org/drawingml/2006/table">
            <a:tbl>
              <a:tblPr/>
              <a:tblGrid>
                <a:gridCol w="4248000"/>
                <a:gridCol w="1297080"/>
                <a:gridCol w="1368360"/>
                <a:gridCol w="1150920"/>
              </a:tblGrid>
              <a:tr h="63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Прогноз 202</a:t>
                      </a:r>
                      <a:r>
                        <a:rPr b="1" lang="en-US" sz="14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Прогноз 202</a:t>
                      </a:r>
                      <a:r>
                        <a:rPr b="1" lang="en-US" sz="14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Прогноз 202</a:t>
                      </a:r>
                      <a:r>
                        <a:rPr b="1" lang="en-US" sz="14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Расходы бюджета поселения, тыс. руб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99"/>
                          </a:solidFill>
                          <a:latin typeface="Tahoma"/>
                        </a:rPr>
                        <a:t>257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99"/>
                          </a:solidFill>
                          <a:latin typeface="Tahoma"/>
                        </a:rPr>
                        <a:t>2152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99"/>
                          </a:solidFill>
                          <a:latin typeface="Tahoma"/>
                        </a:rPr>
                        <a:t>220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в рамках государственных (целевых) и муниципальных программ, тыс. руб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99"/>
                          </a:solidFill>
                          <a:latin typeface="Tahoma"/>
                        </a:rPr>
                        <a:t>2541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99"/>
                          </a:solidFill>
                          <a:latin typeface="Tahoma"/>
                        </a:rPr>
                        <a:t>2117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99"/>
                          </a:solidFill>
                          <a:latin typeface="Tahoma"/>
                        </a:rPr>
                        <a:t>2170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доля государственных (целевых) и муниципальных программ в общих расходах,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99"/>
                          </a:solidFill>
                          <a:latin typeface="Tahoma"/>
                        </a:rPr>
                        <a:t>98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99"/>
                          </a:solidFill>
                          <a:latin typeface="Tahoma"/>
                        </a:rPr>
                        <a:t>98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99"/>
                          </a:solidFill>
                          <a:latin typeface="Tahoma"/>
                        </a:rPr>
                        <a:t>98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99"/>
                </a:solidFill>
                <a:latin typeface="Times New Roman"/>
              </a:rPr>
              <a:t>Реализация муниципальных программ 202</a:t>
            </a:r>
            <a:r>
              <a:rPr b="1" lang="en-US" sz="2400" spc="-1" strike="noStrike">
                <a:solidFill>
                  <a:srgbClr val="66ff99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66ff99"/>
                </a:solidFill>
                <a:latin typeface="Times New Roman"/>
              </a:rPr>
              <a:t>-202</a:t>
            </a:r>
            <a:r>
              <a:rPr b="1" lang="en-US" sz="2400" spc="-1" strike="noStrike">
                <a:solidFill>
                  <a:srgbClr val="66ff99"/>
                </a:solidFill>
                <a:latin typeface="Times New Roman"/>
              </a:rPr>
              <a:t>7</a:t>
            </a:r>
            <a:r>
              <a:rPr b="1" lang="ru-RU" sz="2400" spc="-1" strike="noStrike">
                <a:solidFill>
                  <a:srgbClr val="66ff99"/>
                </a:solidFill>
                <a:latin typeface="Times New Roman"/>
              </a:rPr>
              <a:t> годы</a:t>
            </a:r>
            <a:br>
              <a:rPr sz="2400"/>
            </a:br>
            <a:r>
              <a:rPr b="1" lang="ru-RU" sz="1800" spc="-1" strike="noStrike">
                <a:solidFill>
                  <a:srgbClr val="66ff99"/>
                </a:solidFill>
                <a:latin typeface="Times New Roman"/>
              </a:rPr>
              <a:t> (тыс. рублей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9280" y="1197000"/>
          <a:ext cx="8856720" cy="5400720"/>
        </p:xfrm>
        <a:graphic>
          <a:graphicData uri="http://schemas.openxmlformats.org/drawingml/2006/table">
            <a:tbl>
              <a:tblPr/>
              <a:tblGrid>
                <a:gridCol w="422280"/>
                <a:gridCol w="4330800"/>
                <a:gridCol w="934920"/>
                <a:gridCol w="1008360"/>
                <a:gridCol w="720720"/>
                <a:gridCol w="657000"/>
                <a:gridCol w="782640"/>
              </a:tblGrid>
              <a:tr h="903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программ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о за 202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жидаемое исполнение в 202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оду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Прогноз    на 20</a:t>
                      </a:r>
                      <a:r>
                        <a:rPr b="1" lang="en-US" sz="11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25</a:t>
                      </a:r>
                      <a:r>
                        <a:rPr b="1" lang="ru-RU" sz="11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 г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Прогноз     на 20</a:t>
                      </a:r>
                      <a:r>
                        <a:rPr b="1" lang="en-US" sz="11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26</a:t>
                      </a:r>
                      <a:r>
                        <a:rPr b="1" lang="ru-RU" sz="11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 г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Прогноз    на 202</a:t>
                      </a:r>
                      <a:r>
                        <a:rPr b="1" lang="en-US" sz="11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1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 г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</a:t>
                      </a:r>
                      <a:r>
                        <a:rPr b="1" lang="ru-RU" sz="10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"Развитие муниципальной службы в Алексеевском сельском поселении Чамзинского муниципального района Республики Мордовия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1400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1304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6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1910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93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</a:t>
                      </a:r>
                      <a:r>
                        <a:rPr b="1" lang="ru-RU" sz="10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«Развитие автомобильных дорог» в Алексеевском сельском поселении Чамзинского муниципального района Республики Мордовия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255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27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9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21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</a:t>
                      </a:r>
                      <a:r>
                        <a:rPr b="1" lang="ru-RU" sz="10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«Охрана окружающей среды и повышение экологической безопасности на территории Алексеевского сельского поселения 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55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5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5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</a:t>
                      </a:r>
                      <a:r>
                        <a:rPr b="1" lang="ru-RU" sz="10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«Повышение эффективности управления муниципальными финансами в Алексеевском сельском поселении Чамзинского муниципального района Республики Мордовия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7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3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16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3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</a:t>
                      </a:r>
                      <a:r>
                        <a:rPr b="1" lang="ru-RU" sz="10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«Профилактика правонарушений на территории Алексеевского сельского поселения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</a:t>
                      </a:r>
                      <a:r>
                        <a:rPr b="1" lang="ru-RU" sz="10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«Благоустройство территории Алексеевского сельского поселения Чамзинского муниципального района 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39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35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9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202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</a:t>
                      </a:r>
                      <a:r>
                        <a:rPr b="1" lang="ru-RU" sz="10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"Комплексное развитие сельских территорий Алексеевского сельского поселения Чамзинского муниципального района 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8ffff"/>
                </a:solidFill>
                <a:latin typeface="Tahoma"/>
              </a:rPr>
              <a:t>КОНТАКТНАЯ ИНФОРМАЦ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17316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97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Tahoma"/>
              </a:rPr>
              <a:t>Адрес: Республика Мордовия, Чамзинский район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Tahoma"/>
              </a:rPr>
              <a:t>с. Киржеманы, ул. Ленина, д.1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Tahoma"/>
              </a:rPr>
              <a:t>Телефон: 8-8(3437)-3-93-8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дрес электронной почты </a:t>
            </a:r>
            <a:r>
              <a:rPr b="0" lang="en-US" sz="1800" spc="-1" strike="noStrike">
                <a:solidFill>
                  <a:srgbClr val="29ffff"/>
                </a:solidFill>
                <a:latin typeface="Arial"/>
              </a:rPr>
              <a:t>AlekseevkaSP@e-mordovia.r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афик работы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понедельника по пятницу - с 8-30 до 17-3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ббота, воскресенье - выходные д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еденный перерыв - с 13-00 до 14-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Основные параметры бюджета Алексеевского сельского поселения Чамзинского муниципального района Республики Мордовия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в 20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3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-202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7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году</a:t>
            </a:r>
            <a:br>
              <a:rPr sz="2800"/>
            </a:b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(тыс.рублей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4000" y="1806480"/>
          <a:ext cx="8362800" cy="4083120"/>
        </p:xfrm>
        <a:graphic>
          <a:graphicData uri="http://schemas.openxmlformats.org/drawingml/2006/table">
            <a:tbl>
              <a:tblPr/>
              <a:tblGrid>
                <a:gridCol w="2612880"/>
                <a:gridCol w="1270080"/>
                <a:gridCol w="1119240"/>
                <a:gridCol w="1120680"/>
                <a:gridCol w="1195200"/>
                <a:gridCol w="1044720"/>
              </a:tblGrid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Факт 202</a:t>
                      </a: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План 202</a:t>
                      </a: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Прогно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202</a:t>
                      </a: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г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202</a:t>
                      </a: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6</a:t>
                      </a:r>
                      <a:r>
                        <a:rPr b="1" lang="ru-RU" sz="16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202</a:t>
                      </a: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7</a:t>
                      </a:r>
                      <a:r>
                        <a:rPr b="1" lang="ru-RU" sz="16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 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Доход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99cc"/>
                          </a:solidFill>
                          <a:latin typeface="Arial"/>
                        </a:rPr>
                        <a:t>2569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cc"/>
                          </a:solidFill>
                          <a:latin typeface="Arial"/>
                        </a:rPr>
                        <a:t>2228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cc"/>
                          </a:solidFill>
                          <a:latin typeface="Arial"/>
                        </a:rPr>
                        <a:t>2602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cc"/>
                          </a:solidFill>
                          <a:latin typeface="Arial"/>
                        </a:rPr>
                        <a:t>2185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cc"/>
                          </a:solidFill>
                          <a:latin typeface="Arial"/>
                        </a:rPr>
                        <a:t>224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в том числ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налоговые и неналогов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627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57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793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823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773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безвозмездные поступ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194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165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1809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1362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147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Расход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cc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ff99cc"/>
                          </a:solidFill>
                          <a:latin typeface="Arial"/>
                        </a:rPr>
                        <a:t>60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cc"/>
                          </a:solidFill>
                          <a:latin typeface="Arial"/>
                        </a:rPr>
                        <a:t>246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cc"/>
                          </a:solidFill>
                          <a:latin typeface="Arial"/>
                        </a:rPr>
                        <a:t>2576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cc"/>
                          </a:solidFill>
                          <a:latin typeface="Arial"/>
                        </a:rPr>
                        <a:t>2152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cc"/>
                          </a:solidFill>
                          <a:latin typeface="Arial"/>
                        </a:rPr>
                        <a:t>220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Дефицит/ Профиц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-3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-236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26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33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39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Доходная часть бюджета Алексеевского сельского поселения Чамзинского муниципального района Республики Мордовия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в 20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23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-202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7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году</a:t>
            </a:r>
            <a:br>
              <a:rPr sz="2400"/>
            </a:b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(тыс.рублей)</a:t>
            </a:r>
            <a:br>
              <a:rPr sz="1400"/>
            </a:b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3" name="Объект 6"/>
          <p:cNvGraphicFramePr/>
          <p:nvPr/>
        </p:nvGraphicFramePr>
        <p:xfrm>
          <a:off x="109440" y="1700280"/>
          <a:ext cx="949176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440" y="1700280"/>
                    <a:ext cx="949176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539640" y="404640"/>
            <a:ext cx="80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Структура налоговых доходов </a:t>
            </a:r>
            <a:br>
              <a:rPr sz="2000"/>
            </a:b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бюджета Алексеевского сельского поселения Чамзинского муниципального района Республики Мордовия на 202</a:t>
            </a:r>
            <a:r>
              <a:rPr b="1" lang="en-US" sz="2000" spc="-1" strike="noStrike">
                <a:solidFill>
                  <a:srgbClr val="e5ffff"/>
                </a:solidFill>
                <a:latin typeface="Times New Roman"/>
              </a:rPr>
              <a:t>5</a:t>
            </a: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 го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Диаграмма 7"/>
          <p:cNvGraphicFramePr/>
          <p:nvPr/>
        </p:nvGraphicFramePr>
        <p:xfrm>
          <a:off x="487440" y="2008080"/>
          <a:ext cx="8516880" cy="37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Диаграмма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2008080"/>
                    <a:ext cx="851688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Структура налоговых доходов </a:t>
            </a:r>
            <a:br>
              <a:rPr sz="2000"/>
            </a:b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бюджета Алексеевского сельского поселения Чамзинского муниципального района Республики Мордовия на 202</a:t>
            </a:r>
            <a:r>
              <a:rPr b="1" lang="en-US" sz="2000" spc="-1" strike="noStrike">
                <a:solidFill>
                  <a:srgbClr val="e5ffff"/>
                </a:solidFill>
                <a:latin typeface="Times New Roman"/>
              </a:rPr>
              <a:t>6</a:t>
            </a: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 год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9" name="Диаграмма 6"/>
          <p:cNvGraphicFramePr/>
          <p:nvPr/>
        </p:nvGraphicFramePr>
        <p:xfrm>
          <a:off x="409680" y="1928880"/>
          <a:ext cx="8385120" cy="416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928880"/>
                    <a:ext cx="838512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Структура налоговых доходов </a:t>
            </a:r>
            <a:br>
              <a:rPr sz="2000"/>
            </a:b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бюджета Алексеевского сельского поселения Чамзинского муниципального района Республики Мордовия на 202</a:t>
            </a:r>
            <a:r>
              <a:rPr b="1" lang="en-US" sz="2000" spc="-1" strike="noStrike">
                <a:solidFill>
                  <a:srgbClr val="e5ffff"/>
                </a:solidFill>
                <a:latin typeface="Times New Roman"/>
              </a:rPr>
              <a:t>7</a:t>
            </a: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 год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2" name="Диаграмма 3"/>
          <p:cNvGraphicFramePr/>
          <p:nvPr/>
        </p:nvGraphicFramePr>
        <p:xfrm>
          <a:off x="409680" y="1868400"/>
          <a:ext cx="8385120" cy="416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868400"/>
                    <a:ext cx="838512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БЕЗВОЗМЕЗДНЫЕ ПОСТУПЛЕНИЯ АЛЕКСЕЕВСКОГО СЕЛЬСКОГО ПОСЕЛЕНИЯ ЧАМЗИНСКОГО МУНИЦИПАЛЬНОГО РАЙОНА РЕСПУБЛИКИ МОРДОВИЯ НА 202</a:t>
            </a: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3</a:t>
            </a: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-202</a:t>
            </a: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7</a:t>
            </a: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 ГОД</a:t>
            </a:r>
            <a:br>
              <a:rPr sz="2000"/>
            </a:br>
            <a:r>
              <a:rPr b="1" lang="ru-RU" sz="1200" spc="-1" strike="noStrike">
                <a:solidFill>
                  <a:srgbClr val="e5ffff"/>
                </a:solidFill>
                <a:latin typeface="Tahoma"/>
              </a:rPr>
              <a:t>(тыс.рублей)</a:t>
            </a:r>
            <a:endParaRPr b="0" lang="en-US" sz="1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-127080" y="1620720"/>
          <a:ext cx="9499680" cy="490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7080" y="1620720"/>
                    <a:ext cx="949968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Расходы бюджета Алексеевского сельского поселения Чамзинского муниципального района Республики Мордовия по разделам классификации операций сектора государственного управления </a:t>
            </a:r>
            <a:br>
              <a:rPr sz="1600"/>
            </a:b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в 202</a:t>
            </a:r>
            <a:r>
              <a:rPr b="1" lang="en-US" sz="1600" spc="-1" strike="noStrike">
                <a:solidFill>
                  <a:srgbClr val="e5ffff"/>
                </a:solidFill>
                <a:latin typeface="Tahoma"/>
              </a:rPr>
              <a:t>3</a:t>
            </a: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-202</a:t>
            </a:r>
            <a:r>
              <a:rPr b="1" lang="en-US" sz="1600" spc="-1" strike="noStrike">
                <a:solidFill>
                  <a:srgbClr val="e5ffff"/>
                </a:solidFill>
                <a:latin typeface="Tahoma"/>
              </a:rPr>
              <a:t>7</a:t>
            </a: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 годах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8000" y="1268280"/>
          <a:ext cx="8856720" cy="4791240"/>
        </p:xfrm>
        <a:graphic>
          <a:graphicData uri="http://schemas.openxmlformats.org/drawingml/2006/table">
            <a:tbl>
              <a:tblPr/>
              <a:tblGrid>
                <a:gridCol w="2432160"/>
                <a:gridCol w="1153800"/>
                <a:gridCol w="1025640"/>
                <a:gridCol w="1023840"/>
                <a:gridCol w="1025640"/>
                <a:gridCol w="1098720"/>
                <a:gridCol w="1096920"/>
              </a:tblGrid>
              <a:tr h="18288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Наименование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202</a:t>
                      </a: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 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(факт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тыс.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202</a:t>
                      </a: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202</a:t>
                      </a: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202</a:t>
                      </a: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202</a:t>
                      </a: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Расходы, 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260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246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246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2576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2152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220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1620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150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150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146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1325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1303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в 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6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6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5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6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59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13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13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14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159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175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в 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7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33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в 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255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27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27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209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21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28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в 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9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11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11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1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39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35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35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549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202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14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в 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15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14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14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21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9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6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Расходы бюджета Алексеевского сельского поселения Чамзинского муниципального района Республики Мордовия по разделам классификации операций сектора государственного управления </a:t>
            </a:r>
            <a:br>
              <a:rPr sz="1600"/>
            </a:b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в 202</a:t>
            </a:r>
            <a:r>
              <a:rPr b="1" lang="en-US" sz="1600" spc="-1" strike="noStrike">
                <a:solidFill>
                  <a:srgbClr val="e5ffff"/>
                </a:solidFill>
                <a:latin typeface="Tahoma"/>
              </a:rPr>
              <a:t>3</a:t>
            </a: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-202</a:t>
            </a:r>
            <a:r>
              <a:rPr b="1" lang="en-US" sz="1600" spc="-1" strike="noStrike">
                <a:solidFill>
                  <a:srgbClr val="e5ffff"/>
                </a:solidFill>
                <a:latin typeface="Tahoma"/>
              </a:rPr>
              <a:t>7</a:t>
            </a: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 годах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0920" y="1557360"/>
          <a:ext cx="8713800" cy="4653000"/>
        </p:xfrm>
        <a:graphic>
          <a:graphicData uri="http://schemas.openxmlformats.org/drawingml/2006/table">
            <a:tbl>
              <a:tblPr/>
              <a:tblGrid>
                <a:gridCol w="2011320"/>
                <a:gridCol w="1192320"/>
                <a:gridCol w="1339560"/>
                <a:gridCol w="1073160"/>
                <a:gridCol w="1081080"/>
                <a:gridCol w="1008360"/>
                <a:gridCol w="1008000"/>
              </a:tblGrid>
              <a:tr h="362880"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Наименование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202</a:t>
                      </a: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 г.  (факт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тыс.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202</a:t>
                      </a: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202</a:t>
                      </a: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202</a:t>
                      </a: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202</a:t>
                      </a:r>
                      <a:r>
                        <a:rPr b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Охрана окружающей сре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55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5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5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5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5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5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в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2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2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2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13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13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14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14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154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в 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5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0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в 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99cc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40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7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в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1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3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9T13:30:15Z</dcterms:created>
  <dc:creator>user</dc:creator>
  <dc:description/>
  <dc:language>en-US</dc:language>
  <cp:lastModifiedBy>Rahmankullova</cp:lastModifiedBy>
  <dcterms:modified xsi:type="dcterms:W3CDTF">2024-11-11T08:04:01Z</dcterms:modified>
  <cp:revision>234</cp:revision>
  <dc:subject/>
  <dc:title>Презентация PowerPoint</dc:title>
</cp:coreProperties>
</file>